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3FD-C279-4113-B51E-C10A374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CBA-AEF6-47F9-B995-A2EE26C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71C-8BBD-4A6E-868D-C0E0444F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601-956B-497A-89A8-D1B78417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6FF-B7F5-4379-A4C8-2857354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F3E-E685-4CEF-B0E7-E80D51F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EF4-9F16-4F56-9A24-738881B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16B-F130-49A2-B964-84778F4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DD9-A312-450F-A9B5-5AC6346A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C32-3FE8-4DF0-9B14-7E94046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80D-AEC2-4664-A4E3-C9F06C1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CC6-1608-4088-8E25-B6FBB49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D6D-1890-45B4-95CB-6B551209C4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xtract from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Prel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liam Words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in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and del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cket; dense wood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aft,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557000"/>
            <a:ext cx="2374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nk verse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557000"/>
            <a:ext cx="5770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rhymed iambic pentameter, the main dramatic and narrative verse form in English poe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words, phrases or images that underpin the theme, emphasise the message or contribute to tone/m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17:37Z</dcterms:modified>
  <cp:revision>47</cp:revision>
  <dc:subject/>
  <dc:title>La Belle Dame Sans Merci</dc:title>
</cp:coreProperties>
</file>